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202-FCAF-4178-9679-7840FD3D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180-6676-4DE2-867D-AC72E58D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5A7-0A01-42ED-9825-92AA551C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FCA-7472-4210-B0C0-B88F2A4B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6F5-C10B-4FF6-B247-BED77038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6B0-AFAD-4BC7-9DC7-911B572B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003-B3C2-4F28-AC3C-1E20B208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D2F-4F04-45DC-9E47-A106305A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ABF-98E1-4CCC-AA01-03906B9A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19C-CC2B-4864-ADCA-C51AFD7A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84A-0840-4422-822F-9386ECFA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BF3-F613-4DD6-AA89-B61EF9E8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0FB4-08FE-42D1-B1EC-B150F3278E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3760" y="2286000"/>
            <a:ext cx="394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8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286000" cy="146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221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2209680"/>
            <a:ext cx="1447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4038480"/>
            <a:ext cx="1828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038480"/>
            <a:ext cx="2590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400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62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556236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010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10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3:01Z</dcterms:modified>
  <cp:revision>219</cp:revision>
  <dc:subject/>
  <dc:title>Slide 1</dc:title>
</cp:coreProperties>
</file>